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8008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1200" cy="35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71400" y="5783040"/>
            <a:ext cx="7801200" cy="35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8008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6640" cy="35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840" y="1906560"/>
            <a:ext cx="3806640" cy="35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1400" y="5783040"/>
            <a:ext cx="3806640" cy="35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840" y="5783040"/>
            <a:ext cx="3806640" cy="35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8008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11720" cy="35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9120" y="1906560"/>
            <a:ext cx="2511720" cy="35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6840" y="1906560"/>
            <a:ext cx="2511720" cy="35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71400" y="5783040"/>
            <a:ext cx="2511720" cy="35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9120" y="5783040"/>
            <a:ext cx="2511720" cy="35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6840" y="5783040"/>
            <a:ext cx="2511720" cy="35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8008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801200" cy="74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8008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801200" cy="74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8008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6640" cy="74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840" y="1906560"/>
            <a:ext cx="3806640" cy="74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8008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10920" y="549000"/>
            <a:ext cx="7800840" cy="58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8008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6640" cy="35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906560"/>
            <a:ext cx="3806640" cy="74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1400" y="5783040"/>
            <a:ext cx="3806640" cy="35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8008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6640" cy="74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906560"/>
            <a:ext cx="3806640" cy="35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840" y="5783040"/>
            <a:ext cx="3806640" cy="35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8008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6640" cy="35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840" y="1906560"/>
            <a:ext cx="3806640" cy="35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1400" y="5783040"/>
            <a:ext cx="7801200" cy="35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249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7647120" y="6299280"/>
            <a:ext cx="1344600" cy="4302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143000" y="6248520"/>
            <a:ext cx="190512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1280" y="6248520"/>
            <a:ext cx="2895840" cy="45720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10520" y="758880"/>
            <a:ext cx="801720" cy="793800"/>
          </a:xfrm>
          <a:prstGeom prst="roundRect">
            <a:avLst>
              <a:gd name="adj" fmla="val 199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8244000" y="692280"/>
            <a:ext cx="639720" cy="63324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80084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801200" cy="74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6080" indent="-316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6040" indent="-25884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944640"/>
            <a:ext cx="76197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Coordenação Técnica de Combate à Desertific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PAN-Bras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71640" y="3141720"/>
            <a:ext cx="3289320" cy="32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95280" y="1125360"/>
            <a:ext cx="7791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RESULTADOS ALCANÇADOS EM 2004 </a:t>
            </a:r>
            <a:r>
              <a:rPr b="1" lang="en-GB" sz="24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2781360"/>
            <a:ext cx="784872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ONFERÊNCIA SUL-AMERICANA SOBRE O COMBATE À DESERTIFICAÇÃO (CCD+10) – entrega oficial do PAN-Brasil à CCD, em 3 agosto de 200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m 6 de dezembro o Programa foi lançado oficialmente em Caicó-R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5280" y="1125360"/>
            <a:ext cx="7791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RESULTADOS ALCANÇADOS EM 2004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5840" y="1933560"/>
            <a:ext cx="8400960" cy="41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ORKSHOP CENÁRIOS CLIMÁTICOS DO SEMI-ÁRIDO E IMPLICAÇÕES PARA O DESENVOLVIMENTO DO NORDES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ORGANIZAÇÃO: SRH-MMA/INPE/BNB/BIR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DATA: 29 e 30 de novembro de 2004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LOCAL: Fortaleza-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BJETIVO: Discutir as questões referentes as mudanças climáticas e suas implicações para o desenvolvimento regional nas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AS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95280" y="1125360"/>
            <a:ext cx="7791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RESULTADOS ALCANÇADOS EM 2004 </a:t>
            </a:r>
            <a:r>
              <a:rPr b="1" lang="en-GB" sz="24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2003400"/>
            <a:ext cx="8209080" cy="39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buClr>
                <a:srgbClr val="ffffff"/>
              </a:buClr>
              <a:buSzPct val="25000"/>
              <a:buFont typeface="Times New Roman"/>
              <a:buChar char="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cto Nacional de Prevenção e Controle da Desertificação e Mitigação dos Efeitos da Se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Objetivo: promover estratégias para fortalecer, nos municípios dos estados que abrangem as ASD, um conjunto de ações integradas, articulando-as com as federais e municipais, com o objetivo de melhorar a gestão para a prevenção e o controle da desertificação e mitigação dos efeitos da se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95280" y="1125360"/>
            <a:ext cx="7791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RESULTADOS ALCANÇADOS EM 2004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2349360"/>
            <a:ext cx="820872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buClr>
                <a:srgbClr val="ffffff"/>
              </a:buClr>
              <a:buSzPct val="25000"/>
              <a:buFont typeface="Times New Roman"/>
              <a:buChar char="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WORKSHOP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UB-REGIONAL DO OP-15 PARA OS PAÍSES DA AMERICA LATINA E CARIB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25000"/>
              <a:buFont typeface="Times New Roman"/>
              <a:buChar char="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TA: 06 a 09 de dezembro de 200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25000"/>
              <a:buFont typeface="Times New Roman"/>
              <a:buChar char="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LOCAL: Natal-R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OBJETIVO: Capacitar os Pontos Focais Nacionais para a elaboração de Projetos para o GEF (Fundo Mundial para o Meio Ambient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5280" y="1125360"/>
            <a:ext cx="7791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EVENTOS EM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3680" y="1940040"/>
            <a:ext cx="8208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buClr>
                <a:srgbClr val="ffffff"/>
              </a:buClr>
              <a:buSzPct val="25000"/>
              <a:buFont typeface="Times New Roman"/>
              <a:buChar char="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minário Regionalização e Sustentabilidade do Turismo – Lavras-M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SzPct val="25000"/>
              <a:buFont typeface="Times New Roman"/>
              <a:buChar char="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SzPct val="25000"/>
              <a:buFont typeface="Times New Roman"/>
              <a:buChar char="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minário sobre Desertificação no Semi-Árido Minei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SzPct val="25000"/>
              <a:buFont typeface="Times New Roman"/>
              <a:buChar char="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SzPct val="25000"/>
              <a:buFont typeface="Times New Roman"/>
              <a:buChar char="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minário de Avaliação do Programa Nacional do Meio Ambiente I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SzPct val="25000"/>
              <a:buFont typeface="Times New Roman"/>
              <a:buChar char="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SzPct val="25000"/>
              <a:buFont typeface="Times New Roman"/>
              <a:buChar char="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Workshop Monitoramento e Avaliação de Indicadores do PAN – Buenos Aires, Argentin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SzPct val="25000"/>
              <a:buFont typeface="Times New Roman"/>
              <a:buChar char="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SzPct val="25000"/>
              <a:buFont typeface="Times New Roman"/>
              <a:buChar char="·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minário sobre Avaliação de Degradação de Terras – San Juan, Argentin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5280" y="1125360"/>
            <a:ext cx="7791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PERSPECTIVAS PARA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773360"/>
            <a:ext cx="8208720" cy="46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eunião de Planejam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dital FN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 dos Planos de Ação Estaduais de Combate à Desertificação nos onze estados brasileiros afetados pelo processo de desertificação e seca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ação de projetos-piloto para combater a desertificação nos onze estados brasileiros abrangidos pelo Program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95280" y="1125360"/>
            <a:ext cx="7791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PERSPECTIVAS PARA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2276640"/>
            <a:ext cx="820872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 e tramitação da proposta da Política Nacional de Combate à Desertifica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ealização de 11 cursos de Combate à Desertifica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ealização do Curso Sulamericano de Combate à Desertificação (IICA/CEPAL/SRH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urso de Capacitação dos Pontos Focais Estaduais de Combate à Desertificaçã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5280" y="1125360"/>
            <a:ext cx="7791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PERSPECTIVAS PARA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2276640"/>
            <a:ext cx="8208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ção conjunta entre vários ministérios para a recuperação de áreas degradadas no núcleo de desertificação de Gilbués no Piauí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4960" y="3573360"/>
            <a:ext cx="878364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provaçã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o texto da Convenção das Nações Unidas de Combate à Desertif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63640" y="1379520"/>
            <a:ext cx="5573880" cy="6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BASE LEG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467080"/>
            <a:ext cx="91440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cret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gislativ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GB" sz="2800" spc="-1" strike="noStrike" baseline="33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8, 12/06/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cret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GB" sz="2800" spc="-1" strike="noStrike" baseline="33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741, 20/08/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1592280"/>
            <a:ext cx="7791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RESULTADOS ALCANÇADOS EM 200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45820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ecretário de Recursos Hídricos do Ministério do Meio Ambiente  assumiu a função de Ponto Focal Nacional da CC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3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riação da Coordenação Técnica de Combate à Desertificação - CT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3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Início da estratégia para a elaboração do Program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3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1844640"/>
            <a:ext cx="876312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Institucionalização do Grupo de Trabalho Interministerial – GTIM (Portaria Ministerial 265 de junho de 200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riação dos Pontos Focais Estaduais (sociedade civil, govern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nvolvimento do Grupo de Trabalho de Combate à Desertificação da AS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stabelecimento de cooperações GTZ / IICA / DED / Mecanismo Mundial /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FN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907920"/>
            <a:ext cx="77914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RESULTADOS ALCANÇADOS EM 2003 </a:t>
            </a:r>
            <a:r>
              <a:rPr b="1" lang="en-GB" sz="2600" spc="-1" strike="noStrike">
                <a:solidFill>
                  <a:srgbClr val="333399"/>
                </a:solidFill>
                <a:latin typeface="Arial"/>
                <a:ea typeface="Times New Roman"/>
              </a:rPr>
              <a:t>(Cont.)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1885320"/>
            <a:ext cx="8534160" cy="39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93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Harmonização dos Projetos de indicadores (IICA/CEPAL/SRH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ncontr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Nacional dos Pontos Focais com o intuito de capacitar e nivelar as informações sobre a UNCC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euniões do GTIM, onde foram elaboradas a estratégia e o cronograma para a elaboração do PAN-Brasil, para 200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125360"/>
            <a:ext cx="7791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RESULTADOS ALCANÇADOS EM 2003 </a:t>
            </a:r>
            <a:r>
              <a:rPr b="1" lang="en-GB" sz="24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71640" y="2276640"/>
            <a:ext cx="756108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just">
              <a:lnSpc>
                <a:spcPct val="93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laboração do PAN-Brasil: prioridade do Gover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 algn="just">
              <a:lnSpc>
                <a:spcPct val="100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ção 7380: Elaboração do Programa de Ação Nacional de Combate à Desertificação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 algn="just">
              <a:lnSpc>
                <a:spcPct val="100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ecursos do PPA 2004-2007 da ordem de  R$ 3.894.141,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125360"/>
            <a:ext cx="7791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RESULTADOS ALCANÇADOS EM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989000"/>
            <a:ext cx="87631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just">
              <a:lnSpc>
                <a:spcPct val="93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Fortalecimento da CTC: Contratação de técnicos do Concurso Temporár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 algn="just">
              <a:lnSpc>
                <a:spcPct val="100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Criação dos Pontos Focais Estaduais Parlamenta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 algn="just">
              <a:lnSpc>
                <a:spcPct val="100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Envolvimento do Grupo de Trabalho Parlament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125360"/>
            <a:ext cx="7791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RESULTADOS ALCANÇADOS EM 2004 </a:t>
            </a:r>
            <a:r>
              <a:rPr b="1" lang="en-GB" sz="24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36520" y="1670040"/>
            <a:ext cx="8763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75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LABORAÇÃO PARTICIPATIVA DO PAN-Bras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 algn="ctr">
              <a:lnSpc>
                <a:spcPct val="75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7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2 Oficinas Estaduais (participação de 1251 pesso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75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7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 Encontros Reg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75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7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Oficina 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75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7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7 Reuniões do G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75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7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 Reuniões com os Pontos Focais Estadu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75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7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videoconfer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75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7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rtal da desertificação http://desertificacao.cnrh-srh.gov.b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75000"/>
              </a:lnSpc>
              <a:tabLst>
                <a:tab algn="l" pos="0"/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6040" indent="-446040">
              <a:lnSpc>
                <a:spcPct val="7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Reunião do GT Parlamentar (Câmara Fede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836640"/>
            <a:ext cx="77914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  <a:ea typeface="Times New Roman"/>
              </a:rPr>
              <a:t>RESULTADOS ALCANÇADOS EM 2004 </a:t>
            </a:r>
            <a:r>
              <a:rPr b="1" lang="en-GB" sz="24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37520" cy="6913800"/>
            <a:chOff x="0" y="0"/>
            <a:chExt cx="9137520" cy="6913800"/>
          </a:xfrm>
        </p:grpSpPr>
        <p:sp>
          <p:nvSpPr>
            <p:cNvPr id="63" name=""/>
            <p:cNvSpPr/>
            <p:nvPr/>
          </p:nvSpPr>
          <p:spPr>
            <a:xfrm>
              <a:off x="0" y="0"/>
              <a:ext cx="9137520" cy="6856560"/>
            </a:xfrm>
            <a:prstGeom prst="roundRect">
              <a:avLst>
                <a:gd name="adj" fmla="val 2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0" y="0"/>
              <a:ext cx="9135720" cy="6913800"/>
              <a:chOff x="0" y="0"/>
              <a:chExt cx="9135720" cy="6913800"/>
            </a:xfrm>
          </p:grpSpPr>
          <p:sp>
            <p:nvSpPr>
              <p:cNvPr id="65" name=""/>
              <p:cNvSpPr/>
              <p:nvPr/>
            </p:nvSpPr>
            <p:spPr>
              <a:xfrm>
                <a:off x="0" y="0"/>
                <a:ext cx="9135720" cy="6896160"/>
              </a:xfrm>
              <a:prstGeom prst="roundRect">
                <a:avLst>
                  <a:gd name="adj" fmla="val 19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0"/>
                <a:ext cx="9135720" cy="691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spcBef>
                    <a:spcPts val="15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7" name="Capa2" descr=""/>
          <p:cNvPicPr/>
          <p:nvPr/>
        </p:nvPicPr>
        <p:blipFill>
          <a:blip r:embed="rId1"/>
          <a:stretch/>
        </p:blipFill>
        <p:spPr>
          <a:xfrm>
            <a:off x="1924200" y="0"/>
            <a:ext cx="4765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65593600597</cp:lastModifiedBy>
  <dcterms:modified xsi:type="dcterms:W3CDTF">2004-12-20T10:21:26Z</dcterms:modified>
  <cp:revision>7</cp:revision>
  <dc:subject/>
  <dc:title>Apresentação do PowerPoint</dc:title>
</cp:coreProperties>
</file>